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83B-66C8-48C3-A572-1BA3040E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6E3-23EF-4776-94AB-FAF6476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72B-76D7-471B-A0D5-CCDD394C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769-801F-46C7-A6B8-C0EA0F9D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D56-FBE0-4389-88A5-A7DDC326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90F-3506-483C-8347-B9D80134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1BC-5E73-4B09-8726-B3597813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F10-DFB5-4FEC-A9D7-5C4D6CFE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3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C03-989F-4654-8EBC-3931053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BCD-93F8-4644-88BF-738B5C7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E23-F868-4BBC-BEA9-FF59764D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F77-3A77-47EA-80C8-379A2B4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6765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March 24,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53000"/>
            <a:ext cx="50292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b2b2b2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4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MIPS SIG Discu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453000"/>
            <a:ext cx="11430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b2b2b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51A1-7827-4B6C-8097-D5A9C9BD852A}" type="slidenum">
              <a:rPr b="0" lang="ja-JP" sz="1400" spc="-1" strike="noStrike">
                <a:solidFill>
                  <a:srgbClr val="b2b2b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ELF Japan Technical Jamboree</a:t>
            </a: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IPS SIG Discus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March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pan Jamboree #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. Ueda / S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oru.Ueda(a)jp.son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243-F302-48CB-B9CD-8C1DFA15B9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to assign a technical liaison between their development team and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vind@mip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r. Arvind Ku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to consider seriously to have BOF session in the Worldwide Embedded Linux Conferenc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can expect many key developers on MIPS will be there to discuss with 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hould be a very good opportunity to discuss about the technical development on M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EB5-A3DA-411A-83B3-F1CEA82226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roposal to CELF memb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our technical development subject into the BOF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’s form the development project together with MIP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Jap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’s have pre-discussion in the next Japan Jambo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rch (Tok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xpected technical discussion item list for the BOF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09C-4B54-41FF-971B-9A2144869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13360"/>
            <a:ext cx="9144000" cy="13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5157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157720"/>
            <a:ext cx="9144000" cy="142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557360"/>
            <a:ext cx="7777080" cy="2879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osition of CEL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2147040" y="1916280"/>
            <a:ext cx="196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 Black"/>
                <a:ea typeface="ＭＳ Ｐゴシック"/>
              </a:rPr>
              <a:t>Us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07760" y="3141720"/>
            <a:ext cx="196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 Black"/>
                <a:ea typeface="ＭＳ Ｐゴシック"/>
              </a:rPr>
              <a:t>Us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39440" y="191628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 Black"/>
                <a:ea typeface="ＭＳ Ｐゴシック"/>
              </a:rPr>
              <a:t>Enterpri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24000" y="1773360"/>
            <a:ext cx="5903640" cy="3999240"/>
            <a:chOff x="324000" y="1773360"/>
            <a:chExt cx="5903640" cy="3999240"/>
          </a:xfrm>
        </p:grpSpPr>
        <p:sp>
          <p:nvSpPr>
            <p:cNvPr id="52" name=""/>
            <p:cNvSpPr/>
            <p:nvPr/>
          </p:nvSpPr>
          <p:spPr>
            <a:xfrm>
              <a:off x="3132000" y="1773360"/>
              <a:ext cx="3095640" cy="367164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369000">
              <a:off x="2539800" y="1781280"/>
              <a:ext cx="1154160" cy="2376360"/>
            </a:xfrm>
            <a:prstGeom prst="triangle">
              <a:avLst>
                <a:gd name="adj" fmla="val 4273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5373720"/>
              <a:ext cx="3097080" cy="398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Embedded Technolog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8369000">
              <a:off x="2916000" y="3063960"/>
              <a:ext cx="558720" cy="1670040"/>
            </a:xfrm>
            <a:prstGeom prst="triangle">
              <a:avLst>
                <a:gd name="adj" fmla="val 42736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080" y="2924280"/>
              <a:ext cx="2178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  <a:ea typeface="ＭＳ Ｐゴシック"/>
                </a:rPr>
                <a:t>CE Produc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640" y="4149720"/>
              <a:ext cx="2952720" cy="934920"/>
            </a:xfrm>
            <a:prstGeom prst="rightArrow">
              <a:avLst>
                <a:gd name="adj1" fmla="val 50000"/>
                <a:gd name="adj2" fmla="val 78956"/>
              </a:avLst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 Black"/>
                  <a:ea typeface="ＭＳ Ｐゴシック"/>
                </a:rPr>
                <a:t>CE Linux For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004480" y="1844640"/>
            <a:ext cx="6129000" cy="4422960"/>
            <a:chOff x="2004480" y="1844640"/>
            <a:chExt cx="6129000" cy="4422960"/>
          </a:xfrm>
        </p:grpSpPr>
        <p:sp>
          <p:nvSpPr>
            <p:cNvPr id="59" name=""/>
            <p:cNvSpPr/>
            <p:nvPr/>
          </p:nvSpPr>
          <p:spPr>
            <a:xfrm rot="3198600">
              <a:off x="5182560" y="1954800"/>
              <a:ext cx="1081080" cy="230184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6320" y="5302080"/>
              <a:ext cx="3073320" cy="648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66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04480" y="5899320"/>
              <a:ext cx="6129000" cy="368280"/>
            </a:xfrm>
            <a:prstGeom prst="rect">
              <a:avLst/>
            </a:prstGeom>
            <a:solidFill>
              <a:srgbClr val="8000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Technologies from the Enterprise System business play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369000">
              <a:off x="2877840" y="2169720"/>
              <a:ext cx="1081080" cy="230364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64000" y="1844640"/>
              <a:ext cx="2592360" cy="3672000"/>
            </a:xfrm>
            <a:prstGeom prst="triangle">
              <a:avLst>
                <a:gd name="adj" fmla="val 5000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  <a:ea typeface="ＭＳ Ｐゴシック"/>
                </a:rPr>
                <a:t>Lin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  <a:ea typeface="ＭＳ Ｐゴシック"/>
                </a:rPr>
                <a:t>Main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 Black"/>
                  <a:ea typeface="ＭＳ Ｐゴシック"/>
                </a:rPr>
                <a:t>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49080" y="342900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4360" y="309240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  <a:ea typeface="ＭＳ Ｐゴシック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B32-EF20-4896-9B43-3301CE3F3E9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872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Matrix Eff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Observed in CEL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060640"/>
            <a:ext cx="7777080" cy="4176720"/>
          </a:xfrm>
          <a:prstGeom prst="roundRect">
            <a:avLst>
              <a:gd name="adj" fmla="val 7398"/>
            </a:avLst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0360" y="1773360"/>
            <a:ext cx="204912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E Linux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476360" y="2133360"/>
            <a:ext cx="7272360" cy="4040280"/>
            <a:chOff x="1476360" y="2133360"/>
            <a:chExt cx="7272360" cy="4040280"/>
          </a:xfrm>
        </p:grpSpPr>
        <p:sp>
          <p:nvSpPr>
            <p:cNvPr id="70" name=""/>
            <p:cNvSpPr/>
            <p:nvPr/>
          </p:nvSpPr>
          <p:spPr>
            <a:xfrm flipV="1">
              <a:off x="7021440" y="2133360"/>
              <a:ext cx="129564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23744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45344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14980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36580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58180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484360" y="2133360"/>
              <a:ext cx="129564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70036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916360" y="2133360"/>
              <a:ext cx="129528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32000" y="2133360"/>
              <a:ext cx="1295640" cy="36716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76360" y="5805360"/>
              <a:ext cx="6335640" cy="368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Semiconductor Technology Speciali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627280" y="2349360"/>
            <a:ext cx="6194520" cy="3248280"/>
            <a:chOff x="2627280" y="2349360"/>
            <a:chExt cx="6194520" cy="3248280"/>
          </a:xfrm>
        </p:grpSpPr>
        <p:sp>
          <p:nvSpPr>
            <p:cNvPr id="82" name=""/>
            <p:cNvSpPr/>
            <p:nvPr/>
          </p:nvSpPr>
          <p:spPr>
            <a:xfrm>
              <a:off x="7093080" y="2349360"/>
              <a:ext cx="1728720" cy="3167280"/>
            </a:xfrm>
            <a:custGeom>
              <a:avLst/>
              <a:gdLst>
                <a:gd name="textAreaLeft" fmla="*/ 37440 w 1728720"/>
                <a:gd name="textAreaRight" fmla="*/ 1691280 w 1728720"/>
                <a:gd name="textAreaTop" fmla="*/ 37440 h 3167280"/>
                <a:gd name="textAreaBottom" fmla="*/ 3129840 h 3167280"/>
              </a:gdLst>
              <a:ahLst/>
              <a:rect l="textAreaLeft" t="textAreaTop" r="textAreaRight" b="textAreaBottom"/>
              <a:pathLst>
                <a:path w="21600" h="39571">
                  <a:moveTo>
                    <a:pt x="1598" y="0"/>
                  </a:moveTo>
                  <a:arcTo wR="1598" hR="1598" stAng="16200000" swAng="-5400000"/>
                  <a:lnTo>
                    <a:pt x="0" y="37973"/>
                  </a:lnTo>
                  <a:arcTo wR="1598" hR="1598" stAng="10800000" swAng="-5400000"/>
                  <a:lnTo>
                    <a:pt x="20002" y="39571"/>
                  </a:lnTo>
                  <a:arcTo wR="1598" hR="1598" stAng="5400000" swAng="-5400000"/>
                  <a:lnTo>
                    <a:pt x="21600" y="1598"/>
                  </a:lnTo>
                  <a:arcTo wR="1598" hR="1598" stAng="0" swAng="-5400000"/>
                  <a:close/>
                </a:path>
              </a:pathLst>
            </a:custGeom>
            <a:solidFill>
              <a:srgbClr val="66ccff">
                <a:alpha val="40000"/>
              </a:srgbClr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19640" y="2349360"/>
              <a:ext cx="1657440" cy="3167280"/>
            </a:xfrm>
            <a:custGeom>
              <a:avLst/>
              <a:gdLst>
                <a:gd name="textAreaLeft" fmla="*/ 35640 w 1657440"/>
                <a:gd name="textAreaRight" fmla="*/ 1621800 w 1657440"/>
                <a:gd name="textAreaTop" fmla="*/ 35640 h 3167280"/>
                <a:gd name="textAreaBottom" fmla="*/ 3131640 h 3167280"/>
              </a:gdLst>
              <a:ahLst/>
              <a:rect l="textAreaLeft" t="textAreaTop" r="textAreaRight" b="textAreaBottom"/>
              <a:pathLst>
                <a:path w="21600" h="41272">
                  <a:moveTo>
                    <a:pt x="1598" y="0"/>
                  </a:moveTo>
                  <a:arcTo wR="1598" hR="1598" stAng="16200000" swAng="-5400000"/>
                  <a:lnTo>
                    <a:pt x="0" y="39674"/>
                  </a:lnTo>
                  <a:arcTo wR="1598" hR="1598" stAng="10800000" swAng="-5400000"/>
                  <a:lnTo>
                    <a:pt x="20002" y="41272"/>
                  </a:lnTo>
                  <a:arcTo wR="1598" hR="1598" stAng="5400000" swAng="-5400000"/>
                  <a:lnTo>
                    <a:pt x="21600" y="1598"/>
                  </a:lnTo>
                  <a:arcTo wR="1598" hR="1598" stAng="0" swAng="-5400000"/>
                  <a:close/>
                </a:path>
              </a:pathLst>
            </a:custGeom>
            <a:solidFill>
              <a:srgbClr val="66ccff">
                <a:alpha val="40000"/>
              </a:srgbClr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27280" y="2349360"/>
              <a:ext cx="2376360" cy="3167280"/>
            </a:xfrm>
            <a:custGeom>
              <a:avLst/>
              <a:gdLst>
                <a:gd name="textAreaLeft" fmla="*/ 51480 w 2376360"/>
                <a:gd name="textAreaRight" fmla="*/ 2324880 w 2376360"/>
                <a:gd name="textAreaTop" fmla="*/ 51480 h 3167280"/>
                <a:gd name="textAreaBottom" fmla="*/ 3115800 h 3167280"/>
              </a:gdLst>
              <a:ahLst/>
              <a:rect l="textAreaLeft" t="textAreaTop" r="textAreaRight" b="textAreaBottom"/>
              <a:pathLst>
                <a:path w="21600" h="28788">
                  <a:moveTo>
                    <a:pt x="1598" y="0"/>
                  </a:moveTo>
                  <a:arcTo wR="1598" hR="1598" stAng="16200000" swAng="-5400000"/>
                  <a:lnTo>
                    <a:pt x="0" y="27190"/>
                  </a:lnTo>
                  <a:arcTo wR="1598" hR="1598" stAng="10800000" swAng="-5400000"/>
                  <a:lnTo>
                    <a:pt x="20002" y="28788"/>
                  </a:lnTo>
                  <a:arcTo wR="1598" hR="1598" stAng="5400000" swAng="-5400000"/>
                  <a:lnTo>
                    <a:pt x="21600" y="1598"/>
                  </a:lnTo>
                  <a:arcTo wR="1598" hR="1598" stAng="0" swAng="-5400000"/>
                  <a:close/>
                </a:path>
              </a:pathLst>
            </a:custGeom>
            <a:solidFill>
              <a:srgbClr val="66ccff">
                <a:alpha val="30000"/>
              </a:srgbClr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25960" y="5229360"/>
              <a:ext cx="4149360" cy="368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Regional Activities, such as Jambo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1240" y="2276640"/>
            <a:ext cx="8348760" cy="3097800"/>
            <a:chOff x="471240" y="2276640"/>
            <a:chExt cx="8348760" cy="3097800"/>
          </a:xfrm>
        </p:grpSpPr>
        <p:sp>
          <p:nvSpPr>
            <p:cNvPr id="87" name=""/>
            <p:cNvSpPr/>
            <p:nvPr/>
          </p:nvSpPr>
          <p:spPr>
            <a:xfrm flipH="1">
              <a:off x="5003640" y="4797360"/>
              <a:ext cx="2160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476000" y="4797360"/>
              <a:ext cx="11509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42920" y="2565360"/>
              <a:ext cx="7705800" cy="1224000"/>
            </a:xfrm>
            <a:custGeom>
              <a:avLst/>
              <a:gdLst>
                <a:gd name="textAreaLeft" fmla="*/ 0 w 7705800"/>
                <a:gd name="textAreaRight" fmla="*/ 7706160 w 770580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18" y="0"/>
                  </a:lnTo>
                  <a:lnTo>
                    <a:pt x="21600" y="10800"/>
                  </a:lnTo>
                  <a:lnTo>
                    <a:pt x="199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4200" y="2276640"/>
              <a:ext cx="2294640" cy="6426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Specific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Discu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1240" y="2924280"/>
              <a:ext cx="21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  <a:ea typeface="ＭＳ Ｐゴシック"/>
                </a:rPr>
                <a:t>Working Group Cha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76360" y="3357720"/>
              <a:ext cx="71992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76360" y="3573360"/>
              <a:ext cx="53276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76360" y="4149720"/>
              <a:ext cx="71992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4365720"/>
              <a:ext cx="73436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3860640"/>
              <a:ext cx="7705800" cy="360360"/>
            </a:xfrm>
            <a:custGeom>
              <a:avLst/>
              <a:gdLst>
                <a:gd name="textAreaLeft" fmla="*/ 0 w 7705800"/>
                <a:gd name="textAreaRight" fmla="*/ 7706160 w 77058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18" y="0"/>
                  </a:lnTo>
                  <a:lnTo>
                    <a:pt x="21600" y="10800"/>
                  </a:lnTo>
                  <a:lnTo>
                    <a:pt x="199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76360" y="4581360"/>
              <a:ext cx="54007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77080" y="4797360"/>
              <a:ext cx="19429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76360" y="5013360"/>
              <a:ext cx="54007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440" y="5037120"/>
              <a:ext cx="160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  <a:ea typeface="ＭＳ Ｐゴシック"/>
                </a:rPr>
                <a:t>Project L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222160" y="1628640"/>
            <a:ext cx="3944880" cy="3988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ther Development Comm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35280" y="2852640"/>
            <a:ext cx="7308720" cy="2160720"/>
            <a:chOff x="1835280" y="2852640"/>
            <a:chExt cx="7308720" cy="2160720"/>
          </a:xfrm>
        </p:grpSpPr>
        <p:sp>
          <p:nvSpPr>
            <p:cNvPr id="103" name=""/>
            <p:cNvSpPr/>
            <p:nvPr/>
          </p:nvSpPr>
          <p:spPr>
            <a:xfrm>
              <a:off x="1835280" y="3141720"/>
              <a:ext cx="2665440" cy="1079280"/>
            </a:xfrm>
            <a:custGeom>
              <a:avLst/>
              <a:gdLst>
                <a:gd name="textAreaLeft" fmla="*/ 608400 w 2665440"/>
                <a:gd name="textAreaRight" fmla="*/ 2057040 w 2665440"/>
                <a:gd name="textAreaTop" fmla="*/ 246240 h 1079280"/>
                <a:gd name="textAreaBottom" fmla="*/ 8330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27640" y="3933720"/>
              <a:ext cx="2665440" cy="1079640"/>
            </a:xfrm>
            <a:custGeom>
              <a:avLst/>
              <a:gdLst>
                <a:gd name="textAreaLeft" fmla="*/ 608400 w 2665440"/>
                <a:gd name="textAreaRight" fmla="*/ 2057040 w 2665440"/>
                <a:gd name="textAreaTop" fmla="*/ 246240 h 1079640"/>
                <a:gd name="textAreaBottom" fmla="*/ 8334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78560" y="2852640"/>
              <a:ext cx="2665440" cy="1079640"/>
            </a:xfrm>
            <a:custGeom>
              <a:avLst/>
              <a:gdLst>
                <a:gd name="textAreaLeft" fmla="*/ 608400 w 2665440"/>
                <a:gd name="textAreaRight" fmla="*/ 2057040 w 2665440"/>
                <a:gd name="textAreaTop" fmla="*/ 246240 h 1079640"/>
                <a:gd name="textAreaBottom" fmla="*/ 8334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DE3-8051-4D63-8E0B-04326BD68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0920" y="1841040"/>
            <a:ext cx="7846920" cy="3675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We hope you to pay attention upon CE Linux Foru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s a place to meet with your actual custom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s a place to make collaboration with many embedded system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50D-219A-475F-9B88-52C3325F8A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ticipation to Semiconductor Architecture Provi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user side Linux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A09-AE6D-470F-9E37-78A095F27D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0192400">
            <a:off x="2195280" y="3357720"/>
            <a:ext cx="501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e need the partner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3247920"/>
            <a:ext cx="7316640" cy="3276720"/>
          </a:xfrm>
          <a:custGeom>
            <a:avLst/>
            <a:gdLst/>
            <a:ahLst/>
            <a:rect l="l" t="t" r="r" b="b"/>
            <a:pathLst>
              <a:path w="4609" h="2064">
                <a:moveTo>
                  <a:pt x="4609" y="0"/>
                </a:moveTo>
                <a:lnTo>
                  <a:pt x="0" y="2064"/>
                </a:lnTo>
                <a:lnTo>
                  <a:pt x="4604" y="2061"/>
                </a:lnTo>
                <a:lnTo>
                  <a:pt x="4609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fefefe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6600" y="2639880"/>
            <a:ext cx="8545320" cy="3880080"/>
          </a:xfrm>
          <a:custGeom>
            <a:avLst/>
            <a:gdLst/>
            <a:ahLst/>
            <a:rect l="l" t="t" r="r" b="b"/>
            <a:pathLst>
              <a:path w="5383" h="2444">
                <a:moveTo>
                  <a:pt x="1217" y="2444"/>
                </a:moveTo>
                <a:lnTo>
                  <a:pt x="5378" y="867"/>
                </a:lnTo>
                <a:lnTo>
                  <a:pt x="5383" y="0"/>
                </a:lnTo>
                <a:lnTo>
                  <a:pt x="0" y="2444"/>
                </a:lnTo>
                <a:lnTo>
                  <a:pt x="1217" y="244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611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tic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24360" y="5229360"/>
            <a:ext cx="924120" cy="933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69240" y="4653000"/>
            <a:ext cx="2174760" cy="162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20150400">
            <a:off x="-247320" y="2344320"/>
            <a:ext cx="9860040" cy="363600"/>
          </a:xfrm>
          <a:custGeom>
            <a:avLst/>
            <a:gdLst>
              <a:gd name="textAreaLeft" fmla="*/ 0 w 9860040"/>
              <a:gd name="textAreaRight" fmla="*/ 9860400 w 98600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41" y="0"/>
                </a:lnTo>
                <a:lnTo>
                  <a:pt x="21600" y="10800"/>
                </a:lnTo>
                <a:lnTo>
                  <a:pt x="186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CE Linux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150400">
            <a:off x="-272880" y="1631880"/>
            <a:ext cx="9505800" cy="792360"/>
          </a:xfrm>
          <a:custGeom>
            <a:avLst/>
            <a:gdLst>
              <a:gd name="textAreaLeft" fmla="*/ 0 w 9505800"/>
              <a:gd name="textAreaRight" fmla="*/ 9506160 w 95058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41" y="0"/>
                </a:lnTo>
                <a:lnTo>
                  <a:pt x="21600" y="10800"/>
                </a:lnTo>
                <a:lnTo>
                  <a:pt x="186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Linux Mai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03640" y="5450040"/>
            <a:ext cx="1728720" cy="1292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65360" y="6021360"/>
            <a:ext cx="253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Products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350200">
            <a:off x="3702960" y="530028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Dedicate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00" y="620640"/>
            <a:ext cx="8569080" cy="5832720"/>
            <a:chOff x="324000" y="620640"/>
            <a:chExt cx="8569080" cy="5832720"/>
          </a:xfrm>
        </p:grpSpPr>
        <p:sp>
          <p:nvSpPr>
            <p:cNvPr id="122" name=""/>
            <p:cNvSpPr/>
            <p:nvPr/>
          </p:nvSpPr>
          <p:spPr>
            <a:xfrm>
              <a:off x="324000" y="1052640"/>
              <a:ext cx="8569080" cy="5400720"/>
            </a:xfrm>
            <a:custGeom>
              <a:avLst/>
              <a:gdLst/>
              <a:ahLst/>
              <a:rect l="l" t="t" r="r" b="b"/>
              <a:pathLst>
                <a:path w="5398" h="3402">
                  <a:moveTo>
                    <a:pt x="0" y="2404"/>
                  </a:moveTo>
                  <a:lnTo>
                    <a:pt x="0" y="3402"/>
                  </a:lnTo>
                  <a:lnTo>
                    <a:pt x="5398" y="953"/>
                  </a:lnTo>
                  <a:lnTo>
                    <a:pt x="5398" y="0"/>
                  </a:lnTo>
                  <a:lnTo>
                    <a:pt x="0" y="2404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3640" y="3068640"/>
              <a:ext cx="863640" cy="115236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0" y="499"/>
                  </a:moveTo>
                  <a:lnTo>
                    <a:pt x="544" y="726"/>
                  </a:lnTo>
                  <a:lnTo>
                    <a:pt x="40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08360" y="2133720"/>
              <a:ext cx="863640" cy="115236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0" y="499"/>
                  </a:moveTo>
                  <a:lnTo>
                    <a:pt x="544" y="726"/>
                  </a:lnTo>
                  <a:lnTo>
                    <a:pt x="40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89560" y="1268280"/>
              <a:ext cx="514440" cy="1303560"/>
            </a:xfrm>
            <a:custGeom>
              <a:avLst/>
              <a:gdLst/>
              <a:ahLst/>
              <a:rect l="l" t="t" r="r" b="b"/>
              <a:pathLst>
                <a:path w="324" h="821">
                  <a:moveTo>
                    <a:pt x="0" y="821"/>
                  </a:moveTo>
                  <a:lnTo>
                    <a:pt x="324" y="726"/>
                  </a:lnTo>
                  <a:lnTo>
                    <a:pt x="18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24720" y="620640"/>
              <a:ext cx="863640" cy="1152720"/>
            </a:xfrm>
            <a:custGeom>
              <a:avLst/>
              <a:gdLst/>
              <a:ahLst/>
              <a:rect l="l" t="t" r="r" b="b"/>
              <a:pathLst>
                <a:path w="544" h="726">
                  <a:moveTo>
                    <a:pt x="0" y="499"/>
                  </a:moveTo>
                  <a:lnTo>
                    <a:pt x="544" y="726"/>
                  </a:lnTo>
                  <a:lnTo>
                    <a:pt x="408" y="0"/>
                  </a:lnTo>
                </a:path>
              </a:pathLst>
            </a:custGeom>
            <a:noFill/>
            <a:ln w="5724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08000" y="5373720"/>
              <a:ext cx="43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42920" y="3860640"/>
              <a:ext cx="43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59280" y="4869000"/>
              <a:ext cx="431640" cy="718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5280" y="4653000"/>
              <a:ext cx="43200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8000" y="4149720"/>
              <a:ext cx="43164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08720" y="3789360"/>
              <a:ext cx="431640" cy="7192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93080" y="2997360"/>
              <a:ext cx="431640" cy="718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35640" y="1916280"/>
              <a:ext cx="431640" cy="718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218280" y="3860640"/>
            <a:ext cx="23889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  <a:ea typeface="ＭＳ Ｐゴシック"/>
              </a:rPr>
              <a:t>OS/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132000" y="2923920"/>
            <a:ext cx="1152720" cy="20890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003640" y="2133360"/>
            <a:ext cx="1152720" cy="20890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708000" y="2924280"/>
            <a:ext cx="1079640" cy="1944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684000" y="4149360"/>
            <a:ext cx="1152360" cy="20890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300720" y="2565360"/>
            <a:ext cx="719280" cy="1295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0131200">
            <a:off x="2003400" y="31032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Generic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235640" y="1125360"/>
            <a:ext cx="1223640" cy="2159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763280" y="3860640"/>
            <a:ext cx="1079640" cy="1944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541440" y="1268280"/>
            <a:ext cx="6337440" cy="1729080"/>
          </a:xfrm>
          <a:prstGeom prst="cloudCallout">
            <a:avLst>
              <a:gd name="adj1" fmla="val 33893"/>
              <a:gd name="adj2" fmla="val 82782"/>
            </a:avLst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CPU Architecture Specia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 Black"/>
                <a:ea typeface="ＭＳ Ｐゴシック"/>
              </a:rPr>
              <a:t>Packaging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627280" y="4220640"/>
            <a:ext cx="719280" cy="12956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E8E-3F16-4CC4-A87B-C02A8B1D55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ease Consider (1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Watch carefully into CELF reg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Japan Jamboree (bimonth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 architects to absorb really required solutions from th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high level discussion about the embedded Linux and relate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need sophisticated intelligence of the processo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page (Japanese / English bilingu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tree.celinuxforum.org/CelfPubWiki/JapanTechnicalJamboreeGui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57D-BABD-4FCA-B06D-60AFD696F2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ease Consider (2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CELF World Embedded Linux Conferenc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,12 April in Santa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expand the excitement in Japan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PU Architectures Oriented B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iscuss about the CPU oriented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Many of CELF members are anticipating MIPS to host MIPS</a:t>
            </a:r>
            <a:r>
              <a:rPr b="0" lang="ja-JP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BOF ses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722-CDDA-436B-A2DA-28C30687CB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4149720"/>
            <a:ext cx="2808360" cy="2087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lease Consider (3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Black"/>
                <a:ea typeface="ＭＳ Ｐゴシック"/>
              </a:rPr>
              <a:t>To enhance scheme to reinforce user side Linux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gether with Toshiba, NEC Electron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789360"/>
            <a:ext cx="4105440" cy="1727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bdf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933720"/>
            <a:ext cx="3168720" cy="2159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500280"/>
            <a:ext cx="8496360" cy="295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3480" y="4467240"/>
            <a:ext cx="23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Us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ＭＳ Ｐゴシック"/>
              </a:rPr>
              <a:t>Develo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52720" y="5157720"/>
            <a:ext cx="2880000" cy="1079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0df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 Reg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 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4365720"/>
            <a:ext cx="1655640" cy="1368360"/>
          </a:xfrm>
          <a:prstGeom prst="leftRightArrow">
            <a:avLst>
              <a:gd name="adj1" fmla="val 49880"/>
              <a:gd name="adj2" fmla="val 3051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3933720"/>
            <a:ext cx="22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ufactur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40320" y="3403440"/>
            <a:ext cx="3256200" cy="337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Open Source Style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03640" y="4057560"/>
            <a:ext cx="811080" cy="8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8A3-8A13-408F-A269-8E7E15878A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Satoru Ueda</cp:lastModifiedBy>
  <dcterms:modified xsi:type="dcterms:W3CDTF">2006-03-20T01:20:36Z</dcterms:modified>
  <cp:revision>1093</cp:revision>
  <dc:subject/>
  <dc:title>PowerPoint Presentation</dc:title>
</cp:coreProperties>
</file>